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288A-4F3E-48CF-8264-6D479C30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9FA8-6FEF-4235-B0DD-F825E28E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1AFB-41D7-487A-8E08-5FA7DC603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845E-5384-4E11-B70F-DE4EDA4F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DB7E-DE15-418E-8EAA-4F8A98A3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98D3-FC1A-404A-A8F8-DE47977F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85AF-E1D2-47CC-9EA9-E3479D6E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926C-9CA4-4656-B02D-DBEB5638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6198-FA5D-43CB-8541-1662CD07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E8E3-7533-41BB-B73E-7D58657A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C034-3AD2-4BCC-A567-48826D9D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C832-B4C4-40C2-A2BA-F7011EBC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3C63-0581-47B9-B10E-F98FF73C6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eu09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0"/>
            <a:ext cx="3962520" cy="10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لما أدخل عرشك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وبالبر أنظر وجه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لما صارت حياتي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سكيباً من أجل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عبدك أعبدك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فقد صرتَ ليَ وأنا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عبدك أعبدك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حياتي هناك طوع أمر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4683545zjAStOanhQ_ph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05520" y="0"/>
            <a:ext cx="4038480" cy="10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لما أنسى ذاتي والأ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غدو دوماً خاضعاً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لما صارت حيات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سـكيبـاً مـن أجل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عبدك أعبدك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فقد صرتَ ليَ وأنا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عبدك أعبدك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حياتي هناك طوع  أمر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0:41:19Z</dcterms:created>
  <dc:creator>USER</dc:creator>
  <dc:description/>
  <dc:language>en-US</dc:language>
  <cp:lastModifiedBy>USER</cp:lastModifiedBy>
  <dcterms:modified xsi:type="dcterms:W3CDTF">2003-02-17T14:38:09Z</dcterms:modified>
  <cp:revision>2</cp:revision>
  <dc:subject/>
  <dc:title>PowerPoint Presentation</dc:title>
</cp:coreProperties>
</file>